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19BC-3C44-4B2F-82E7-022516AE1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94521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960" y="3706920"/>
            <a:ext cx="94521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35D4-6346-41BE-916F-CA60FC875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740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3960" y="370692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97400" y="370692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3AA0-A9E5-4931-AA8A-0B59C95FD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040" y="120636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6120" y="120636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3960" y="370692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040" y="370692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6120" y="3706920"/>
            <a:ext cx="304344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204B-35C5-469E-8A19-689DCCDA5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3960" y="1206360"/>
            <a:ext cx="945216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3BBE-BF3B-446F-B88A-C912599B4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945216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412A-14C8-4F75-B51B-520A7C16B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46123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97400" y="1206360"/>
            <a:ext cx="46123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B746-B7C8-4303-A250-077108F61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1304-9C2B-424D-8BA8-5211AC19F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25800"/>
            <a:ext cx="945180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20F0-5DB6-4332-9FE2-983A84A1F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7400" y="1206360"/>
            <a:ext cx="46123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3960" y="370692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79CA-EA7E-4FE0-B594-13A51CFD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461232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740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97400" y="370692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4B3F-36D1-4E97-B634-5BD08E10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7400" y="1206360"/>
            <a:ext cx="461232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3960" y="3706920"/>
            <a:ext cx="9452160" cy="2283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52F8-B1AB-4C80-954A-79A6A2111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960" y="1206360"/>
            <a:ext cx="9452160" cy="47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0" y="6482880"/>
            <a:ext cx="7615080" cy="1800"/>
          </a:xfrm>
          <a:prstGeom prst="line">
            <a:avLst/>
          </a:prstGeom>
          <a:ln w="28440">
            <a:solidFill>
              <a:srgbClr val="0b8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9906120" cy="139680"/>
          </a:xfrm>
          <a:prstGeom prst="rect">
            <a:avLst/>
          </a:prstGeom>
          <a:gradFill rotWithShape="0">
            <a:gsLst>
              <a:gs pos="0">
                <a:srgbClr val="0b8f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50080" y="6354720"/>
            <a:ext cx="2008440" cy="355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-360" y="6619680"/>
            <a:ext cx="4827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0FA-E16C-41EF-AE3D-1A8B3CC8A1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dti.es/webCDTI/esp/inicio.as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dti.es/" TargetMode="External"/><Relationship Id="rId2" Type="http://schemas.openxmlformats.org/officeDocument/2006/relationships/hyperlink" Target="mailto:gi@cdti.es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8840" y="452520"/>
            <a:ext cx="1674720" cy="67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4800" y="1905120"/>
            <a:ext cx="925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03560" y="1244520"/>
            <a:ext cx="5235480" cy="235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001960" y="4240080"/>
            <a:ext cx="573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121b9"/>
                </a:solidFill>
                <a:latin typeface="Arial"/>
              </a:rPr>
              <a:t>Marco de un proyecto CDTI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9452160" cy="5686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Aportaciones CDTI desde 150.000 (ppto. Mínimo 240.000 Euros) hasta 3.000.000 de Euros.(ppto. Superior a 5 Meuro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La Empresa tiene que asumir con Recursos Propios un mínimo del 30% del presupuesto total del proyect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Duración del proyecto desde 12 hasta 36 mes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e pueden recoger gastos e inversiones desde la presentación de la PROPUESTA vía telemática a través de nuestra Web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Compatibilidad con otras ayudas públicas, respetando las intensidades máximas de ayuda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Que sea innovador y viable desde el punto de vista técnico y comercial (Plan de Negocio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Definir tareas, presupuesto, plazos y horizon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A1A0-A619-4297-B402-3EAF936284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acterísticas de un proyecto CDT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03160" y="1598760"/>
            <a:ext cx="8777520" cy="3766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No líneas predetermin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No presupuestos predetermin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No sujeto a convocato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royectos plurianual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CDTI asume el riesgo téc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No se piden garantías real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C2CA-488A-46A7-839F-096E5AF21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yudas a preparación de ofertas de GICs (AP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3960" y="1655280"/>
            <a:ext cx="9452160" cy="4016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-28584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Objeto de financiación: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eparación de ofertas de suministro de bienes y servicios al GICs cuyo presupuesto supere los 120.000 euro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po: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réditos sin intere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125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Reembolso: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Se asume el riesgo de no ser adjudicatario de la oferta en un rango razonable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Sólo se reembolsa si la oferta es ganadora o si el presupuesto de la oferta excede en más de un 20% al del contrato adjudicado por la G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mporte financiable: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Hasta 18.000 euros, en función de las características de la oferta presentad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15B2-78DD-4030-9C50-E7197648BF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11320" y="2870280"/>
            <a:ext cx="807084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Centro para el Desarrollo Tecnológico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Dpto. Retornos de Programas Científicos e Insta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C/ Cid nº 4. Telf. 91 581 55 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6157"/>
                </a:solidFill>
                <a:uFillTx/>
                <a:latin typeface="Arial Narrow"/>
                <a:hlinkClick r:id="rId1"/>
              </a:rPr>
              <a:t>www.cdti.es</a:t>
            </a: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; </a:t>
            </a:r>
            <a:r>
              <a:rPr b="0" lang="es-ES_tradnl" sz="3200" spc="-1" strike="noStrike" u="sng">
                <a:solidFill>
                  <a:srgbClr val="006157"/>
                </a:solidFill>
                <a:uFillTx/>
                <a:latin typeface="Arial Narrow"/>
                <a:hlinkClick r:id="rId2"/>
              </a:rPr>
              <a:t>gi@cdti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82720" y="480960"/>
            <a:ext cx="52578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66880" y="457200"/>
            <a:ext cx="5235840" cy="235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008E-FB50-49FE-B71B-2A438FB59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240"/>
            <a:ext cx="9451800" cy="734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pto. Retornos de Programas Científicos e Instalaciones.</a:t>
            </a:r>
            <a:br>
              <a:rPr sz="2400"/>
            </a:b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Áre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2520" y="1251000"/>
            <a:ext cx="8850240" cy="4515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rograma Nacional de Espa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rogramas Bilaterales del sector espacial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27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Retornos satélites Hispasat, Eumesat, Spainsat / xtar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randes Instalaciones Científica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Representación española en el Comité de Finanzas del CERN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66"/>
                </a:solidFill>
                <a:latin typeface="Arial"/>
              </a:rPr>
              <a:t>(Delegado, </a:t>
            </a: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Industrial Liaison  Officer (ILO) y Industry and Technology Liaison Officer (ITLO)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Representación española en el Comité de Finanzas del ESRF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(Purcharser Advisor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Comité Gestor de la Plataforma Tecnológica de Fusión (CIEMAT-CDT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Otros (Foro EIFast, RI, Euratom,..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17D4-736A-4E09-B249-4F44BF1E80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240"/>
            <a:ext cx="9451800" cy="734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Dpto. Retornos de Programas Científicos e Instalaciones. </a:t>
            </a:r>
            <a:br>
              <a:rPr sz="2400"/>
            </a:b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bjetivos en el área de GIC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3960" y="1206360"/>
            <a:ext cx="9452160" cy="48776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marL="282960" indent="-282960">
              <a:lnSpc>
                <a:spcPct val="150000"/>
              </a:lnSpc>
              <a:spcBef>
                <a:spcPts val="2251"/>
              </a:spcBef>
              <a:buClr>
                <a:srgbClr val="0000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seguir el 100% de justo retorno de nuestra participación en Organismos y Proyectos de GIC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2251"/>
              </a:spcBef>
              <a:buClr>
                <a:srgbClr val="0000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Ayudar en el posicionamiento de las empresas en proyectos relacionados con tecnologías de GIC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2251"/>
              </a:spcBef>
              <a:buClr>
                <a:srgbClr val="0000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ejorar el nivel tecnológico de nuestras aportacio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2251"/>
              </a:spcBef>
              <a:buClr>
                <a:srgbClr val="0000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Contribuir a la mejora de la competitividad de las empresas español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2251"/>
              </a:spcBef>
              <a:buClr>
                <a:srgbClr val="0000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Promover la transferencia de tecnologías desarrolladas en las GIC a otros sect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E4EA-17CD-439B-B2CC-E8FF1EEBD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edidas de apoyo Grandes Instalaciones Científ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3960" y="1206000"/>
            <a:ext cx="9452160" cy="51123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ivulgación de oportunidades y licitaciones en GIC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royectos CDTI – Financiación Proyectos de I+D+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oyectos de Investigación Industrial Concertad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oyectos de Desarrollo Tecnológic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oyectos de Innovación Tecnológi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Ayudas a la preparación de ofertas a Grandes Instalaciones Científicas (APO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poyo a la consecución de contratos industriales de alto contenido tecnológico generados por G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rograma Nacional del Espacio (excepcionalmente para la convocatoria 200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8600" indent="-226080">
              <a:lnSpc>
                <a:spcPct val="10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Nueva área temática objeto de subvención: Tecnologías relacionadas con el desarrollo de telescopios gigantes en el óptico/infrarrojo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3AEA-31AC-43BC-AF97-59EC27B49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4600" y="270000"/>
            <a:ext cx="945216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584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oyectos CDTI – Financiación Proyectos de I+D+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209680"/>
            <a:ext cx="6553080" cy="1600200"/>
          </a:xfrm>
          <a:custGeom>
            <a:avLst/>
            <a:gdLst/>
            <a:ahLst/>
            <a:rect l="l" t="t" r="r" b="b"/>
            <a:pathLst>
              <a:path w="4128" h="816">
                <a:moveTo>
                  <a:pt x="0" y="0"/>
                </a:moveTo>
                <a:lnTo>
                  <a:pt x="0" y="816"/>
                </a:lnTo>
                <a:lnTo>
                  <a:pt x="4128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212196"/>
            </a:solidFill>
            <a:round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990720"/>
            <a:ext cx="22100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roceso de         I+D+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empres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7240" y="1066680"/>
            <a:ext cx="195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pre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3960" y="1066680"/>
            <a:ext cx="1652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4880" y="1066680"/>
            <a:ext cx="1499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 Narrow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9440" y="4038480"/>
            <a:ext cx="16444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d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Concer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60320" y="4038480"/>
            <a:ext cx="142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de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7560" y="4038480"/>
            <a:ext cx="148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d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114800"/>
            <a:ext cx="1981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Tip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royecto CD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14600" y="25146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ee800"/>
                    </a:gs>
                    <a:gs pos="100000">
                      <a:srgbClr val="beb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iesgo técnico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ee800"/>
                  </a:gs>
                  <a:gs pos="100000">
                    <a:srgbClr val="beb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ee800"/>
                  </a:gs>
                  <a:gs pos="100000">
                    <a:srgbClr val="beb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ee800"/>
                    </a:gs>
                    <a:gs pos="100000">
                      <a:srgbClr val="beb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ensidad de ayu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ee800"/>
                  </a:gs>
                  <a:gs pos="100000">
                    <a:srgbClr val="beb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819520"/>
            <a:ext cx="152280" cy="228600"/>
          </a:xfrm>
          <a:prstGeom prst="upDownArrow">
            <a:avLst>
              <a:gd name="adj1" fmla="val 50000"/>
              <a:gd name="adj2" fmla="val 29885"/>
            </a:avLst>
          </a:prstGeom>
          <a:gradFill rotWithShape="0">
            <a:gsLst>
              <a:gs pos="0">
                <a:srgbClr val="006bea"/>
              </a:gs>
              <a:gs pos="100000">
                <a:srgbClr val="2121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01000" y="528732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centro d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75920" y="521136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Desarrollo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productos /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51055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8769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02000" y="512100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Incorporació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asimil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8769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2200" y="4038480"/>
            <a:ext cx="1118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 Narrow"/>
              </a:rPr>
              <a:t>CDTI - 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04200" y="52574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Moder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cc"/>
                </a:solidFill>
                <a:latin typeface="Arial Narrow"/>
              </a:rPr>
              <a:t>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67680" y="48769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75A8-9EA2-44FD-ABF6-7B32EF8EE2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372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gramas Nacionales</a:t>
            </a: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yectos de Investigación Industrial Concertada (PI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5120" y="1001880"/>
            <a:ext cx="86583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royectos de investigación precompetiti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Alto grado de Riesg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Resultados no relacionados con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Requiere la colaboración con UN,s, O.P.I.,s, C.T.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ueden coordinarse con ayudas de  Ministerios y financiación de las CC.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portación de hasta el 60% al 0% de inte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embolso 8-1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Tramo no reembolsable: 70 % colaboración con UN,s, C.P.I., C.T.,s, hasta un 20% del presupuesto d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nticipo del 25% de la aportación CDTI a la firma con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cordes con la estrategia del Plan Nacional de I+D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73160" y="1981080"/>
            <a:ext cx="775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645F-4FA0-4CD2-90F3-3081EAE2C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72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gramas Nacionales</a:t>
            </a: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yectos de Desarrollo Tecnológico (P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162080"/>
            <a:ext cx="86583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royectos de investigación precompetitiva y compet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Riesgo técnico medio y/o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esarrollo, o actualización, de nuevos procesos y/o productos de cara a  su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ueden coordinarse con ayudas de  Ministerios y financiación de las CC.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portación de hasta el 60% al 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embolso 8-1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En proyectos internacionales: tramo no reembolsable 25% a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Línea prefinanciación: anticipo 75% aportación al  Euribor-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cordes con la estrategia del Plan Nacional de I+D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73160" y="1981080"/>
            <a:ext cx="775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CECB-2C51-42A9-AD50-4696C0BC1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37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gramas Nacionales</a:t>
            </a: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yectos de Innovación Tecnológica (P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1515960"/>
            <a:ext cx="9144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royectos de adaptación e incorporación de nuevas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Riesgo técnico bajo, elevado porcentaje de activos fijos en el presupues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Objetivos comerciales rápidos, corto periodo de recuperación de l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ueden coordinarse con ayudas de Ministerios y  financiación de las CC.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portación hasta el 40% al 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embolso en 8-1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Línea prefinanciación banc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24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cordes con la estrategia del Plan Nacional de I+D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4063-84FD-4825-BA5B-F9370A276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25800"/>
            <a:ext cx="9451800" cy="405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strumentos financier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219320"/>
          <a:ext cx="9906120" cy="5246640"/>
        </p:xfrm>
        <a:graphic>
          <a:graphicData uri="http://schemas.openxmlformats.org/drawingml/2006/table">
            <a:tbl>
              <a:tblPr/>
              <a:tblGrid>
                <a:gridCol w="3197160"/>
                <a:gridCol w="1679760"/>
                <a:gridCol w="1218960"/>
                <a:gridCol w="1481400"/>
                <a:gridCol w="2328840"/>
              </a:tblGrid>
              <a:tr h="625320"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po de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8fa"/>
                    </a:solidFill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po de inter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8fa"/>
                    </a:solidFill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l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8fa"/>
                    </a:solidFill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édito % pp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8fa"/>
                    </a:solidFill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te no reembols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8fa"/>
                    </a:solidFill>
                  </a:tcPr>
                </a:tc>
              </a:tr>
              <a:tr h="531720">
                <a:tc gridSpan="5"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anciación dire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ba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vestigación Industrial Concert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-1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sta 70% Contrato OPIS, C.T.hasta 20% Pp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sarrollo Tecn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-1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no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-1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yectos Internacionales 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!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IBK-Bilat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% Aport. CD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édito NEO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sta 400 K€ o 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anciación a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 gridSpan="5"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ba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0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74C8-C220-41A1-9E7E-D724C9B54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4:25:34Z</dcterms:created>
  <dc:creator>Tariq Attar</dc:creator>
  <dc:description/>
  <dc:language>en-US</dc:language>
  <cp:lastModifiedBy>pda</cp:lastModifiedBy>
  <cp:lastPrinted>2001-01-18T19:15:28Z</cp:lastPrinted>
  <dcterms:modified xsi:type="dcterms:W3CDTF">2007-02-08T10:45:56Z</dcterms:modified>
  <cp:revision>542</cp:revision>
  <dc:subject/>
  <dc:title>Client name (Arial 26, bold)  Main title page (Arial 24, bold) Subtitle (Arial 24, plain)  Date (Arial 16, plain)</dc:title>
</cp:coreProperties>
</file>